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4AB-70A1-465C-BD4B-B93922AD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B3F-C54F-475C-B4F9-A5452EB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797-18CF-4CC2-8026-55174D49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3D1-AC96-4FF3-A7DB-29F004D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F22-019F-4C8A-AE76-1B2413F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7B9-79F8-499A-90B0-A6FF1CD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EF7-58BF-43A5-A926-8366A65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58E-1744-453D-B438-F76DAA0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E82-363B-4F5C-B258-3D44179F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BF8-2B34-49C2-99B6-79B1696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D2B-1A16-419A-A8EA-9F31C38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EA7-EA98-4F5F-8C7E-95402C6D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3BE-77AB-4719-AAED-C9C7F0AE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travel.org/en/Image:Transsib-tra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travel.org/en/Image:Vladstatio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rans Siberian Railroa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Savana Price, Kate Noble Hall, and Anna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taking the Yaroslavl -Vladivostok route which go from Yaroslavl to Vladivostok the train stopped for 20-30 minutes every 3 to 4 hours and we would get off the train and people on platforms would offer drinks and food. This was great because it would crave our hunger while on the tr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Trans-Siberian train at the s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Yarosla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ong the TSR we first saw the city of Yaroslavl, is one of the oldest cities in Russia. Yaroslavl is wealthy and has a lot of beautiful chur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rans-Siberian route map showing Trans-Mongolian and Trans-Manchurian routes"/>
          <p:cNvPicPr/>
          <p:nvPr/>
        </p:nvPicPr>
        <p:blipFill>
          <a:blip r:embed="rId1"/>
          <a:stretch/>
        </p:blipFill>
        <p:spPr>
          <a:xfrm>
            <a:off x="2362320" y="3581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l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SR is divided in to different classes First Class is the most comfortable and expensive each cabin has 2 couches that can turn in to beds. Second Class has 4 beds and 1 bathroom that is share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 little less expensive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 is smaller with only a little privacy and small narrow hallw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A 4-berth cabin on the FESCO ferry from Vladivostok to Japan."/>
          <p:cNvPicPr/>
          <p:nvPr/>
        </p:nvPicPr>
        <p:blipFill>
          <a:blip r:embed="rId1"/>
          <a:stretch/>
        </p:blipFill>
        <p:spPr>
          <a:xfrm>
            <a:off x="4876920" y="4724280"/>
            <a:ext cx="2361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kutsk is another wealthy trading city. Irkutsk is a major attraction because of Lake Baikal and that is why it is a tradin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os29.jpg (29529 bytes)"/>
          <p:cNvPicPr/>
          <p:nvPr/>
        </p:nvPicPr>
        <p:blipFill>
          <a:blip r:embed="rId1"/>
          <a:stretch/>
        </p:blipFill>
        <p:spPr>
          <a:xfrm>
            <a:off x="2971800" y="3733920"/>
            <a:ext cx="3886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Vladivos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ladivostok was the last stop on the Trans Siberian Railway. Vladivostok is a major military outpost. We saw the beautiful harbor that brought a lot of trading to Russia. When we arrived in Vladivostok we saw the Vladivostok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Vladivostok s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114800"/>
            <a:ext cx="18669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18Z</dcterms:created>
  <dc:creator>annablock</dc:creator>
  <dc:description/>
  <dc:language>en-US</dc:language>
  <cp:lastModifiedBy>annablock</cp:lastModifiedBy>
  <dcterms:modified xsi:type="dcterms:W3CDTF">2008-11-25T17:07:02Z</dcterms:modified>
  <cp:revision>3</cp:revision>
  <dc:subject/>
  <dc:title>Slide 1</dc:title>
</cp:coreProperties>
</file>